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527573"/>
        <c:axId val="50496976"/>
      </c:barChart>
      <c:catAx>
        <c:axId val="66527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96976"/>
        <c:crosses val="autoZero"/>
        <c:auto val="1"/>
        <c:lblAlgn val="ctr"/>
        <c:lblOffset val="100"/>
        <c:noMultiLvlLbl val="0"/>
      </c:catAx>
      <c:valAx>
        <c:axId val="504969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527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84A-E240-4DF1-A0CC-4CD7EB99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0CD-BE3B-43D9-B8EE-3B6A6B22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88D-9F71-4676-A38A-FFC1D716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06A-B0FB-4B09-A6F8-4164D947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F45-F97E-4FE6-B82D-9387F80F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FEE-9725-4478-978C-A4EE0BD6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F30-929D-4ACD-8BE9-04317B17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30C-624E-4684-9E3A-63E08ECD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69D-6E04-4C28-9880-AA4AEFA7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BEE-9BA1-4AD4-A9D1-C9920B1C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205-E771-478C-ABD0-A376879D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BD2-17CE-490F-9216-BEC598FE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126BD-AE26-44DC-99F5-3E1346B854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