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53432"/>
        <c:axId val="80470341"/>
      </c:barChart>
      <c:catAx>
        <c:axId val="115534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70341"/>
        <c:crosses val="autoZero"/>
        <c:auto val="1"/>
        <c:lblAlgn val="ctr"/>
        <c:lblOffset val="100"/>
        <c:noMultiLvlLbl val="0"/>
      </c:catAx>
      <c:valAx>
        <c:axId val="80470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534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251-369E-4382-9AA5-E55B58AC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AC38-7D7C-4BC9-8576-5AFBFB02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2471-4A82-4E81-8FB7-F48811C1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603-7B00-4558-BA65-1A26A3A9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F17-6E01-4162-9CB3-D3F2C33E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436-CF8F-4A2C-98A7-808ED140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CEF-9BED-4242-BBFC-168D34B2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EBA-5085-4516-A147-EEAAFB8B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311F-972A-44F2-833B-735D23DD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05A-F3FE-448C-8529-8DE46437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9CAA-F490-45D0-BBCB-7C329AD6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1CA1-77E8-4B41-B710-B29BBED4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39645-963F-417C-8665-9EA9F2F5A8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