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69494"/>
        <c:axId val="43718565"/>
      </c:barChart>
      <c:catAx>
        <c:axId val="63069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18565"/>
        <c:crosses val="autoZero"/>
        <c:auto val="1"/>
        <c:lblAlgn val="ctr"/>
        <c:lblOffset val="100"/>
        <c:noMultiLvlLbl val="0"/>
      </c:catAx>
      <c:valAx>
        <c:axId val="43718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69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9FA-F7CE-41C3-8F6A-C33CA7C3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744-4E50-4D2C-B4DF-B35525E9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774-CBE2-4F9C-8045-B7469736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002-55BC-487F-AA83-DBCF4EAC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8E9-90DF-4AD8-90D1-7C40ED66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A17-D49C-4216-ADD3-BAEE125E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2F1-E78B-4E64-9D0F-C4263FAD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8D2-1EB8-4FCD-A6A7-10BD852C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067-4CD2-4D5A-A970-70F3D42E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890-50A5-41FD-B8CF-5A1852A9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C33-3624-4D9E-AF28-256516E5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8CF-F69A-4D94-8376-B2426E03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431BF-5749-4A81-92F6-E16B7498CD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