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530183"/>
        <c:axId val="51399070"/>
      </c:barChart>
      <c:catAx>
        <c:axId val="57530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99070"/>
        <c:crosses val="autoZero"/>
        <c:auto val="1"/>
        <c:lblAlgn val="ctr"/>
        <c:lblOffset val="100"/>
        <c:noMultiLvlLbl val="0"/>
      </c:catAx>
      <c:valAx>
        <c:axId val="51399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30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FA48-60F1-4DD7-9189-9DFBCE6F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23C-F718-4826-BD73-E7809F40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4D3E-A746-4A34-80AF-F5542A61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0CB-F795-40B9-9471-7D01150C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57E-D43B-4DFA-9560-2782ED4B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9AB-302F-43D5-B8D3-A1B5D4E9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B7B6-E54F-414E-9B0D-2C54C200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561-B36C-4E17-9438-6D9D7D69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139-84CB-4E4A-8D00-4605A48B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AFD-92FC-446B-8D65-465C44D6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F579-E955-43D8-9FB4-82045327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72E7-DF0E-42CA-8D9F-FAB9CA9E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074BA-39FE-4B3C-9F05-B5E27A6AB0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