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701652"/>
        <c:axId val="66913173"/>
      </c:barChart>
      <c:catAx>
        <c:axId val="387016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13173"/>
        <c:crosses val="autoZero"/>
        <c:auto val="1"/>
        <c:lblAlgn val="ctr"/>
        <c:lblOffset val="100"/>
        <c:noMultiLvlLbl val="0"/>
      </c:catAx>
      <c:valAx>
        <c:axId val="669131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016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6E78-EF66-4FC4-B0A3-4ED7D4BD0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3C6E-6CBE-44D7-99E3-9BD83FF2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A3EF-A580-42DB-8A61-29F80EF8D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878E-4D42-4AB3-A202-C0579C483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19B0-3712-4FA8-AEEE-65994B28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A8A8-67D6-42F0-9A1C-35BCFBFB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4F9E-7063-4D80-8E3F-020E1A2E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2666-B2D2-4610-88BB-A84D24BC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F05F-9447-4BB2-9B36-A60D09D4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3808-598C-44C7-A6E1-BF1D6A60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F2EC-C9F2-4EF5-978E-A57F65FD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F9D8-00A6-4FC8-B21F-EB08BABC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55998C-0763-41D9-9128-B5A8FB464A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