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0745"/>
        <c:axId val="36409745"/>
      </c:barChart>
      <c:catAx>
        <c:axId val="7820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09745"/>
        <c:crosses val="autoZero"/>
        <c:auto val="1"/>
        <c:lblAlgn val="ctr"/>
        <c:lblOffset val="100"/>
        <c:noMultiLvlLbl val="0"/>
      </c:catAx>
      <c:valAx>
        <c:axId val="36409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0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CDE-9A93-46DD-82C3-7D609B97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A98-8053-4332-B731-3F94474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03F-9727-4595-8F3E-626A18C9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1CE-E510-4B2C-BF31-7E2CA515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982-9537-48CB-BFDE-5DCC4A4C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2B1-304A-4852-947F-8313D636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66D-6253-4DB6-A14D-0A883F2B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4A6-42F8-4030-B948-A6B623FA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26B-CDBB-4E49-B1AC-C35C527E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319-B6AA-4085-93A5-DF9A8C0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95F-F7B7-4680-A678-0E2577A4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120-00B3-491E-BFC1-954F5652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A6218-3DE1-463D-8383-06D5CDC65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