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82697"/>
        <c:axId val="19507078"/>
      </c:barChart>
      <c:catAx>
        <c:axId val="40782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07078"/>
        <c:crosses val="autoZero"/>
        <c:auto val="1"/>
        <c:lblAlgn val="ctr"/>
        <c:lblOffset val="100"/>
        <c:noMultiLvlLbl val="0"/>
      </c:catAx>
      <c:valAx>
        <c:axId val="19507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82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E8A0-7B60-4BA6-8A9E-A1BF4DB1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F158-AB8E-44B8-83F6-224111FC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4F9-F65D-4937-8D5C-8342B5BE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017-8D22-41A2-9BFF-7720AF0A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52A-0626-4BC1-A83C-9E07A865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4F5-AF2D-4E36-9780-692D8205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034-D94A-466B-9140-D3478636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48FD-06E2-4F1F-87CB-2C375607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E0E-0AF1-4EE4-A368-9ED5A656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B65B-7855-42C7-B825-698369F5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C2CE-692B-4172-883E-10B53D85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E3FF-659C-4658-94D9-DB06758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93D1B-00A7-4EEC-A968-BC69BAB179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