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26830"/>
        <c:axId val="82684500"/>
      </c:barChart>
      <c:catAx>
        <c:axId val="33726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84500"/>
        <c:crosses val="autoZero"/>
        <c:auto val="1"/>
        <c:lblAlgn val="ctr"/>
        <c:lblOffset val="100"/>
        <c:noMultiLvlLbl val="0"/>
      </c:catAx>
      <c:valAx>
        <c:axId val="82684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26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3EB-981D-414C-AF91-6890CD38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C68-0152-435E-8924-C383F2F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A5C-7829-4ED7-BA75-1A397D5F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A89-646B-4D0B-A7D2-994E76EC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785-8B77-4A78-B572-8930ACE2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A38-9937-46E3-BD09-6646B0EB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010-7E52-4BB3-B189-EF345A30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491-4EF3-499F-BAEF-76BEF942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E48-A467-45E2-AA75-524E3332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C11-C9D2-4AAF-9D31-1BB1E0C1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E9D-D6C5-409D-9D63-5AEACF97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0B8-79B3-4793-98F9-5D426ED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F128C-A26B-4C77-B13A-D3FCCC900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