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46228"/>
        <c:axId val="29875931"/>
      </c:barChart>
      <c:catAx>
        <c:axId val="828462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75931"/>
        <c:crosses val="autoZero"/>
        <c:auto val="1"/>
        <c:lblAlgn val="ctr"/>
        <c:lblOffset val="100"/>
        <c:noMultiLvlLbl val="0"/>
      </c:catAx>
      <c:valAx>
        <c:axId val="298759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462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18E-F19E-41FB-84F3-77575564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69A-0937-4F29-9A14-F08EA8E7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1462-154F-4230-99CA-6C069983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8045-D521-469F-8873-74E3C29D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223E-7F91-48E1-A34E-4AD119E2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CFE-B4FF-4CEE-A090-FDAE9C1B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559C-F210-4737-B19B-23E953E7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71A-5800-46E5-879C-908467D4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7EF9-0514-41E5-AEF9-12AEB1D1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16A-3348-4270-8172-F97509AF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DB00-72EF-4A63-B870-03096729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4D5-715D-429A-A668-650215E1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FA5A1-5388-4747-A3FB-797D172BFE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