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62972"/>
        <c:axId val="95828762"/>
      </c:barChart>
      <c:catAx>
        <c:axId val="34162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8762"/>
        <c:crosses val="autoZero"/>
        <c:auto val="1"/>
        <c:lblAlgn val="ctr"/>
        <c:lblOffset val="100"/>
        <c:noMultiLvlLbl val="0"/>
      </c:catAx>
      <c:valAx>
        <c:axId val="95828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2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76B-1841-4048-A6B9-81AF98BE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FD5-7B54-4494-A173-CCCD75D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C36-A099-4B1D-BF51-257D52BD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AFB-BD88-4BD8-B51B-BB0D6BCE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224-F496-4750-95FA-5C9A8902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591-587F-40B6-8C73-70585DA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4C1-F0B2-4BB2-AEF3-453FB81D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A68-AB32-47CA-9E71-94FB806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995-B636-4C72-B8AE-98C06B5F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E02-B182-4983-A67E-8A379FC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5B3-69BA-4EFB-87D4-FA9ACB1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202-3F24-45B0-83D5-813975F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66B3F-469E-4DBA-984F-F89FD15FE2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