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80578"/>
        <c:axId val="75919549"/>
      </c:barChart>
      <c:catAx>
        <c:axId val="56080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9549"/>
        <c:crosses val="autoZero"/>
        <c:auto val="1"/>
        <c:lblAlgn val="ctr"/>
        <c:lblOffset val="100"/>
        <c:noMultiLvlLbl val="0"/>
      </c:catAx>
      <c:valAx>
        <c:axId val="75919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80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155-B93C-4DDF-8F94-24C28E28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7F8-9D38-42E9-B61A-CED8FE18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B3E-62DA-4EF4-A59D-7F8E31D4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3A8-9993-44A5-A1EB-4BADE3CE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653-8C4F-4B05-95D3-A068D8A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B02-7D4A-42CE-BB39-EC2D59F8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409-EC17-46B4-B133-CD69FDE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407-FA55-4EE2-9725-0C7B31B5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C4B-A38F-4E3D-B146-6D2EABDC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8CA-24BE-47EC-AB24-F2356E3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39A-FBCE-42C3-8BCB-5522861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FAD-3598-4A43-BAFD-43F25ED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354C2-6B2C-4DC6-8866-7F8DCD655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