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01947"/>
        <c:axId val="17558419"/>
      </c:barChart>
      <c:catAx>
        <c:axId val="55901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58419"/>
        <c:crosses val="autoZero"/>
        <c:auto val="1"/>
        <c:lblAlgn val="ctr"/>
        <c:lblOffset val="100"/>
        <c:noMultiLvlLbl val="0"/>
      </c:catAx>
      <c:valAx>
        <c:axId val="17558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01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0ED-DB2C-4E7D-8165-611ED698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DC5-CD0B-46BB-AB07-8E874798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18D-C47D-4ED4-A00C-6DF85B09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FDB-82D2-45C9-8627-5913C1D8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1B9-5321-494C-87D7-18CB45B9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635-1B50-40FC-B749-7890B128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224-7727-452C-BE48-9A839E5D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E27-B0FB-4E16-BA4D-0EFFC0E3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21F-4CD3-4490-B9AA-3B32A3C3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82B-C4CB-4D2C-8991-5311EF98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04FE-AE00-4BF7-BA46-ADF11C21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86F-FDB2-4DDF-B38E-8B2C355E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CE5D0-0725-4F04-B4EF-CE3DC23A9D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