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54172"/>
        <c:axId val="67251728"/>
      </c:barChart>
      <c:catAx>
        <c:axId val="15054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51728"/>
        <c:crosses val="autoZero"/>
        <c:auto val="1"/>
        <c:lblAlgn val="ctr"/>
        <c:lblOffset val="100"/>
        <c:noMultiLvlLbl val="0"/>
      </c:catAx>
      <c:valAx>
        <c:axId val="67251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4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713-9ED9-446B-9D70-D34AB2DF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09A-784D-4F80-A81C-E13550D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0F4-F63C-44A9-A0CD-ADCB01AB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B46-3729-4495-8D82-DFD53D0B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B62-65A8-42F6-B0E0-371A5962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C00-FEB6-4793-94B5-DC211110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D07-C722-4871-AB01-D62AF6F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563-A67D-4380-9BEA-C742C81B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D20-2616-4A22-ACA0-8C3FAC81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DDD-83F5-473F-9933-C3F262B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40C-EF99-4E01-9767-193EF2EB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D3F-950F-49CF-8853-1008B71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4D643-8479-4796-9FF9-A232502596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