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2257"/>
        <c:axId val="43888075"/>
      </c:barChart>
      <c:catAx>
        <c:axId val="8432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88075"/>
        <c:crosses val="autoZero"/>
        <c:auto val="1"/>
        <c:lblAlgn val="ctr"/>
        <c:lblOffset val="100"/>
        <c:noMultiLvlLbl val="0"/>
      </c:catAx>
      <c:valAx>
        <c:axId val="43888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2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291-7529-441A-AF61-47395C84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15D-517A-4BBD-A178-E53D741A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8B3-CAE6-47F5-8711-0870FF38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ADE0-1010-4F3F-8E3C-660AEF92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AE7-F599-4C65-91EB-43675049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D7E-3499-42F1-8628-4D53A791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8D4-267E-455D-9AB3-5285C8E7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C30-05E0-402E-9D0A-0C091F07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F3F-A8F1-4401-9450-4331365C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48C-9008-438E-9E59-ECBFF7AF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BC7-4540-45C6-8D36-3361EB63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A68D-97D9-42BA-B68C-A9487386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C6289-0173-451D-805F-7B3FC625B9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