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52509"/>
        <c:axId val="62431383"/>
      </c:barChart>
      <c:catAx>
        <c:axId val="78852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31383"/>
        <c:crosses val="autoZero"/>
        <c:auto val="1"/>
        <c:lblAlgn val="ctr"/>
        <c:lblOffset val="100"/>
        <c:noMultiLvlLbl val="0"/>
      </c:catAx>
      <c:valAx>
        <c:axId val="62431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52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1B0-7E15-43D8-8E41-509544DF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000-64E3-4B3E-99D3-4F1CE14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99A-D01B-43F4-B88A-5113A19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223-264A-4A25-AE91-C6F6CA16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189-79F7-43C7-AE51-04B6B1B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FDB-27A1-4C97-9F08-9011760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900-FA78-43B0-9A18-AC36F66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03D-5B69-4F29-9B79-9E1AFEB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CBC-F53B-46C8-8BF1-0893CAF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54A-59BC-447C-A356-D129184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972-D73F-4599-86BA-5B84FF6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D78-0243-46AB-9F25-FF28089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65435-4ED4-4E11-851F-CF292B4884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