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8021"/>
        <c:axId val="34503460"/>
      </c:barChart>
      <c:catAx>
        <c:axId val="1278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03460"/>
        <c:crosses val="autoZero"/>
        <c:auto val="1"/>
        <c:lblAlgn val="ctr"/>
        <c:lblOffset val="100"/>
        <c:noMultiLvlLbl val="0"/>
      </c:catAx>
      <c:valAx>
        <c:axId val="34503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8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DA7-DA26-4146-BA98-9B2F7521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FCB-94F4-49D1-9D60-D89164B5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B37-A6E0-4E7B-B56A-A67F6BA1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700-02CC-4CCF-84FA-B24608AF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5CD-F90F-4072-92F6-F84BB9CF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1E6-7436-4C97-823F-A9C86CAE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66A-AE94-4D2A-B1F9-83AF9E6E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7BE-9A1E-4E49-983E-5D406D55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4AB-26CE-4C1B-90B4-A3CF4150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289-5B16-4EF9-9071-4616260E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28B-8EF7-4987-BC55-00175740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72D-D8CF-4837-AC8A-E9E957C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F0CC0-A4B6-48B0-9E89-72D95DEF20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